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9785-4B89-4836-B426-B280AC68A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FF63-F57A-469E-B45B-35CCECB6C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74FC-48E1-4970-BC21-016D7C68A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146D-5A3A-4652-AADD-147AFCD71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95E76-466F-474B-B2EC-BFF862A02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68CB8-6B5A-4C37-9F15-6467B0BBC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4FE1D-D822-492A-B99B-3DF2DC649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32B21-C6D6-4F3E-A13D-EE73B8B67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002B8-8C86-4920-97BB-14318B6E7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68DDB-3D03-4BB5-A335-89A44274C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4B1F5-3DC6-4AAF-A5DE-D96AEA5C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AEB5-932A-4A80-9655-D27C12E8E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DB85A-8DF5-4039-B2DD-1FEBC2024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35DAD-BDC9-4317-93ED-B814A903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FDC64-4A39-4B0E-A71D-EDE89EF8F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1271D-5044-4408-A89D-0B9B90D17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CD1DA-6927-453F-9047-25DC9BD69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E472-263F-4618-981B-1B70BCE44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7585-A9FB-4943-A081-0B2F14CFE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9030-C0E0-4164-9EEF-37A9B0F60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5B56-8797-412A-A5E1-972C7032F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D480-2F33-4030-9026-34501BBD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DC3C-8503-4201-86E5-090627FF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3900-1982-4F3F-81B5-0FE6E15E0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Click to edit the title text format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2FDAB-D9BA-4CB1-BEE3-1EC500C4FA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Click to edit the title text format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C11C2-6BE4-4E86-9455-5DE77A8C90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c0000"/>
              </a:buClr>
              <a:buFont typeface="Wingdings" charset="2"/>
              <a:buChar char="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c0000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c0000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This looks so cool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F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B676C-D41E-40E4-87FA-F04F2F80C7E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We desire stability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, actually we demand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very unhappy when not s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me gov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they really control it that muc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DE42-BC43-4E92-BF3F-1F2C3752C87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Big, big, big budget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year Obama’s budget is $3.6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paralleled amount of power/infl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can they really do whatever they w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PE for two rea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only “control” so much spend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it involves Con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EC86-E575-4F9A-B430-C8F32971C5A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Bad music kills ear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of gov’t budget is actually MANDATORY SPE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e concept as ho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gs like safety n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only control DISCRETION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ly small portion of bud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3EB7-4C82-44D8-8DD8-6A024308981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Vote them all out?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gress has all time low approval rating (positive signs of la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n’t pass bill for emergency unemployment 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an they agree enough to “fix” the econom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kily we have AUTOMATIC STABILIZ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1E4C-BB61-4232-8710-229D229085A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Auto pilot w/o sleeping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actions designed to kick in when needed w/o intervention necess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in recession, what fiscal policies need to happ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 taxes &amp; increase spe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happens w/o tr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ED06-339D-43AB-8237-0BD07844285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Cruise Control at 105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economy hurting it needs he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need he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lose jobs or make less money their taxes go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wise spending picks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people collect unemployment, food stamp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xes down &amp; spending up w/o 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e works in reve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A780-A812-4FEC-813F-D91C653FB41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Still need more help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e of gov’t to stabilize business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do so using FISCAL &amp; MONETARY 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scal--taxes &amp; spe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etary--control of money supp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R, DR, O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use these guys to put economy where we want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E67F-C86C-4577-933D-D48DCC6DCD0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Need proof…look at picture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your ideal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ry, wrong pi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7619760" cy="509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ACB7-3E44-442A-9013-95857FD2B13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What does it look like?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2AAE-3EFC-4E1E-9E2D-57E922EBC72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LRAS is our goal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marks where we are 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tical line is our 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RAS, potential GDP, natural rate of unemployment, full employ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deviation needs fix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7290-959B-48DD-8BCC-0F7C86B1115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OVERVIEW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it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l in some gaps &amp; details with those taking the macro AP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ve got the gist of mac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F782-40C2-4303-83EA-2B097489FB8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Have some choice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LATIONARY G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nomy OVERHE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SSIONARY G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nomy in a rec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YOU NEED TO DO IS CLOSE THE GAP…HOW HARD IS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EF0E-9AD7-4A2D-9F6D-564BD850096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They are sure trying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hy are they fail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actually controls the econom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as they might it is the CONSUMERS who control a larger portion of the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FE21-680F-4D6F-BDB3-12F65D50C71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Still know what to do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b/c they can’t fix it doesn’t mean we don’t know what needs fix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/AD graph shows us what needs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70F9-D770-4B5A-9FEE-41CACC051B0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Picture of fixing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marks where we are…vertical marks where we want to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o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Everything is good; E = 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Recessionary Gap; V &gt;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Inflationary Gap; E &gt; 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is to get E = 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2D63-77D7-410B-86B4-4B1EFF7578F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Distance is easy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ance btwn is what i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you need to stimulate economy by that entire amou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,no,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 what happens when money is sp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else earns it, who then spends it…et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9D65-8BDC-4416-BE36-8BF63A09942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Same as MS multiplier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thing happens here as creation of money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ey is earned, spent, earned, spent, earned, spent forever UNLESS IT IS SA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VING, NOT SPENDING, MONEY IS ONLY THING TO LIMIT THIS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D6D0-A62E-4A27-BC21-1FD05B19532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APC, APS, MPC, MP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big point of mac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C = average propensity to cons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% of our income we sp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S = average propensity to s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% of our income we s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with micro, don’t focus on average but instead MARG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6D31-B341-4666-91AB-C3F684848AA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MPC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ginal propensity to cons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given another $, amount that we sp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PS:  same thing but amount that we s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PS + MPC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money is saved or sp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6EF5-4E3C-4CF9-A81C-73A930A88DA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Works same as RR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/RR is ms multipl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nks saving money is the same thing as us saving money (limits circulation proc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nditure multiplier then be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/MPS    or      1(1-MP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4783-DC6E-49CE-A6A0-9002154E493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Sample Recession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y they want to stimulate the economy $200 bill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MPS is .2, how much should the gov’t increase spending to do s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7890-148B-4623-9C8E-CD34F9271A2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Start at the Beginning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y 1 we discussed the role of the gov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o they intervene in econom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TE THE BUSINESS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9248-0B4A-4119-AFA0-4115D6577A3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Spending is Spending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n’t matter whether it is by consumers, gov’t, for investment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nding counts the s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 in taxes work a little bit diffe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does the multiplier when considering ex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261E-5B36-45C3-81FB-14E4C59B994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Tax Multiplier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gov’t raises taxes they take money we would have spent…but also take money we would have sa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X MULTIPLIER ALWAYS SMALLER THAN SPENDING MULTIPL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of the money would have been sav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wise if the gov’t reduces taxes some of the money will be sa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B5C4-1257-457A-A868-B3417D674E5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End Result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reduce the value of the spending multiplier by amount of it actually sp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nding multiplier = 1/M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x multiplier = (1/MPS) x M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ount we spend of the change in ta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written as MPC/M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s expressed as neg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BE95-00F0-47B5-B2D4-C70A3239CD1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Open Economy Multiplier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e save money it leaves our “spending cycl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wise when we buy imports it does the same 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E multiplier then combines effect of both savings &amp; buying im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E = 1 / (MPS + MP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2704-6BC4-4407-8497-AE28D2A80DB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Practice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partner calculate each of the following multipli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nding:  MPC = 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x: MPS = .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nding:  MPS = 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x:  MPC = 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E:  MPC = .2;  MPi = .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37BE-271C-41CE-85C0-0D1A8B9C409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Part 2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fix the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ssionary gap of $500 billion…MPC = .10…how much should gov’t increase spend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uch would they need to cut tax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MPi .1, how much would they need to increase spend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0089-BAA4-48DC-9D52-4AF273D41D9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Another way to look at it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nesian Cr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DP as a pi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nomous spending = necessary regardless of in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ope of Consumption Function = M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AN THE KC BE USED TO EVALUATE WHAT NEEDS TO HAPPEN TO THE ECONOM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C401-8B3F-40BE-8F92-B9CC16E0814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Bottom Line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oes macro 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’s the gov’t’s job (since GP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they do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nfluence do we ha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ing, velocity of money, M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 the dots and you get the whole pic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6913-58AB-4B20-9B41-D78A030682F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How can they tell?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GDP as biggest indic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nt a lot of time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 versus nom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GX &amp; WIR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DP, GNP, NDP, NEW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oes it really mat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A050-8134-46E9-99A7-30E1D1C679F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Cool Quote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is charged with caring about all of us together, but none of use on our ow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ssible for them to think about us individ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 is the problems that affect us individually that makes GDP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31AC-8011-4E66-A4DC-F641B85ECA2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Big 3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1920" y="1066320"/>
            <a:ext cx="861084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lation, unemployment,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partner answer the follow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How do you calculate infl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equation for market basket, CPI, &amp; inf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Compare the 4 types of unemployment &amp; define the natural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Draw two separate graphs depicting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needs to happen for economy to grow?  What specifically can you do to encourage that growth?  Draw the loanable funds gra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B60F-0B2F-4275-878C-A3E5CFCEF66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These guys matter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v’t constantly trying to fight them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ssible to do so simultaneous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ill you see unemploy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ill you see infl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wo are typically oppo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DBD7-6770-4382-8FE1-73385E5DFB0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New Graph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Phillip guy figured it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lips Curve shows tradeoff between th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RPC set at natural rate of unemplo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have a situation in which both incr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4318-5AA5-4AF0-B81B-3ED8B1C3FEE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Supply Shock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dden changes in AS cu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go eithe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ease in gas prices cause favor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al disasters cause neg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shifts to the left…what happe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ces go up (infl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ut goes down (causing reduced output, which means people lose job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GF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7B1B-923F-4008-806A-0CD1DBDE8F6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3T03:08:32Z</dcterms:created>
  <dc:creator>Lewisburg Area School District</dc:creator>
  <dc:description/>
  <dc:language>en-US</dc:language>
  <cp:lastModifiedBy>Lewisburg Area School District</cp:lastModifiedBy>
  <dcterms:modified xsi:type="dcterms:W3CDTF">2010-03-05T15:17:24Z</dcterms:modified>
  <cp:revision>8</cp:revision>
  <dc:subject/>
  <dc:title>This looks so cool</dc:title>
</cp:coreProperties>
</file>